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F87A-B086-411D-A890-1DAD0EE00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81579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85520" y="4180680"/>
            <a:ext cx="81579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30CF-5CE3-4777-9F82-9B5B06998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85520" y="418068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5840" y="418068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B1CE-D71F-42B5-A07F-068C35AF1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3840" y="164304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2160" y="164304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85520" y="418068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3840" y="418068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2160" y="418068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C1BE-5ED9-426C-BF59-4CAE71CB7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7B69E-3A61-45CD-87AA-A798CB850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85520" y="1643040"/>
            <a:ext cx="815796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CAD3F-8B44-468B-BC54-D311C026E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81579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AA30D-8105-4E74-8414-026ADCD81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6C346-47C9-4701-A22B-9C5635A2E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B62FA-7047-42EB-8651-A9B69CADE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14240" y="2854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7CA78-4537-45C7-BC03-42EA1B957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85520" y="418068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A4D26-7F73-4405-B46A-3D8DF5C0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85520" y="1643040"/>
            <a:ext cx="815796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6769-FE18-49B8-97E8-20711CABD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65840" y="418068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06BFD-AC03-44FD-B8D1-9C715590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85520" y="4180680"/>
            <a:ext cx="81579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3EC05-A33A-4A58-A77D-49AC6AF93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81579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85520" y="4180680"/>
            <a:ext cx="81579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8A574-9673-4ED4-AD48-99E8B7586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85520" y="418068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65840" y="418068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D04E8-67BA-4C1A-88A1-0099E0917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3840" y="164304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02160" y="164304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85520" y="418068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3840" y="418068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02160" y="418068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8DF0C-6165-4929-A6DD-5098CB4BA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81579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9EA6-D12A-4184-82CA-A32B49EE1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5766-072C-4B6F-80CB-8D3001742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861F-C014-402F-899B-FCC8328EA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14240" y="2854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7B83-38A0-40BE-B355-6A5B05962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85520" y="418068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D488-C8F9-4F11-8BA3-31CDFA77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5840" y="418068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2EF7-5492-464F-B7C7-6DB42F68D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85520" y="4180680"/>
            <a:ext cx="81579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2328-6ECB-44B9-841E-1F06B4B4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85520" y="1643040"/>
            <a:ext cx="81579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53E6E-6BF1-4092-AA20-E7928B6829A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85520" y="1643040"/>
            <a:ext cx="81579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68D48-F6BC-42F1-87B5-36C62886164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71480" y="1142640"/>
            <a:ext cx="6343560" cy="20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500280" y="3714840"/>
            <a:ext cx="540072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  <a:ea typeface="Times New Roman"/>
              </a:rPr>
              <a:t>Автор данного шаблона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  <a:ea typeface="Times New Roman"/>
              </a:rPr>
              <a:t>Ермолаева Ирина Алексеев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  <a:ea typeface="Times New Roman"/>
              </a:rPr>
              <a:t>учитель информатики и математик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  <a:ea typeface="Times New Roman"/>
              </a:rPr>
              <a:t>МОУ «Павловская сош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  <a:ea typeface="Times New Roman"/>
              </a:rPr>
              <a:t>с.Павловс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  <a:ea typeface="Times New Roman"/>
              </a:rPr>
              <a:t>Алтайский кра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85520" y="1643040"/>
            <a:ext cx="81579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706320" y="281160"/>
            <a:ext cx="8242560" cy="11509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3142800" y="1428480"/>
            <a:ext cx="58006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www.moderntheorie.com/wp-content/uploads/2010/11/E-mail-is-very-important-to-the-Company.jp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www.nppbillon.ru/images/e-mail.p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3" descr=""/>
          <p:cNvPicPr/>
          <p:nvPr/>
        </p:nvPicPr>
        <p:blipFill>
          <a:blip r:embed="rId2"/>
          <a:stretch/>
        </p:blipFill>
        <p:spPr>
          <a:xfrm>
            <a:off x="1500120" y="1428840"/>
            <a:ext cx="1000080" cy="1143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d:\Мои документы\Мои рисунки\e-mail.png"/>
          <p:cNvPicPr/>
          <p:nvPr/>
        </p:nvPicPr>
        <p:blipFill>
          <a:blip r:embed="rId3"/>
          <a:stretch/>
        </p:blipFill>
        <p:spPr>
          <a:xfrm>
            <a:off x="1571760" y="30718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07:55:38Z</dcterms:created>
  <dc:creator>Comp</dc:creator>
  <dc:description/>
  <dc:language>en-US</dc:language>
  <cp:lastModifiedBy>Comp</cp:lastModifiedBy>
  <dcterms:modified xsi:type="dcterms:W3CDTF">2011-07-27T08:00:47Z</dcterms:modified>
  <cp:revision>1</cp:revision>
  <dc:subject/>
  <dc:title>Слайд 1</dc:title>
</cp:coreProperties>
</file>